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gif" ContentType="image/gif"/>
  <Override PartName="/ppt/media/image7.png" ContentType="image/png"/>
  <Override PartName="/ppt/media/image4.gif" ContentType="image/gif"/>
  <Override PartName="/ppt/media/image8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DE90-48DB-4546-AE80-9D5346133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BF66-7198-4C25-9B69-AFCAE542D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5ECF-3613-4335-8174-9A4793487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101C-BE97-4659-BFF9-3C2BD12A0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04DC-8F43-4994-961C-9BBF44B92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C10E-1CA0-44C8-95E1-6E5855B54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4C6E-9992-4692-A303-F27435A37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F6D4-C504-46D1-B245-4E571D870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BA0A-C286-4E20-ACD1-DADC2DA62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397F-B784-4D6D-A894-E03F33738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5BFA-06EE-438D-9FB0-C8C0820EE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C4F4-EE8A-41AF-BFCD-612DFA6A1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5FB0B-8A25-43B6-B382-E645576022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haroni"/>
                <a:ea typeface="Aharoni"/>
              </a:rPr>
              <a:t>Endocrine System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Bodoni MT"/>
              </a:rPr>
              <a:t>It’s your hormones talking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4114800" y="254160"/>
            <a:ext cx="4800600" cy="63752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5"/>
          <p:cNvSpPr/>
          <p:nvPr/>
        </p:nvSpPr>
        <p:spPr>
          <a:xfrm>
            <a:off x="152280" y="1320840"/>
            <a:ext cx="37339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pancreas produces (in addition to others) two important hormones, insulin and glucago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y work together to maintain a steady level of glucose, or sugar, in the bloo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eep the body supplied with fuel to produce and maintain stores of energ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itle 6"/>
          <p:cNvSpPr/>
          <p:nvPr/>
        </p:nvSpPr>
        <p:spPr>
          <a:xfrm>
            <a:off x="533520" y="82440"/>
            <a:ext cx="3200400" cy="11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haroni"/>
                <a:ea typeface="Aharoni"/>
              </a:rPr>
              <a:t>The Pancre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4114800" y="380880"/>
            <a:ext cx="4800600" cy="637560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5"/>
          <p:cNvSpPr/>
          <p:nvPr/>
        </p:nvSpPr>
        <p:spPr>
          <a:xfrm>
            <a:off x="152280" y="1295280"/>
            <a:ext cx="37339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t secretes melatonin, a hormone that may help regulate the wake-sleep cyc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gonads are the main source of sex hormone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les secrete hormones called androgens, testosterone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gulate body changes associated with sexual develop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female secrete the hormones estrogen and progesteron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strogen is involved in the development of female sexual featur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oth estrogen and progesterone are also involved in pregnancy and the regulation of the menstrual cyc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itle 6"/>
          <p:cNvSpPr/>
          <p:nvPr/>
        </p:nvSpPr>
        <p:spPr>
          <a:xfrm>
            <a:off x="533520" y="57240"/>
            <a:ext cx="3200400" cy="11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haroni"/>
                <a:ea typeface="Aharoni"/>
              </a:rPr>
              <a:t>The Pineal Gland and Gona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1752120" y="75960"/>
            <a:ext cx="716292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rmones are the chemical messenger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out at the bloodstream and move over to the organs or tissue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s results in homeostasis, or equilibrium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ormones exist as catalysts for chemical transform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rmones operate </a:t>
            </a:r>
            <a:r>
              <a:rPr b="1" i="1" lang="en-US" sz="2400" spc="-1" strike="noStrike">
                <a:solidFill>
                  <a:srgbClr val="376092"/>
                </a:solidFill>
                <a:latin typeface="Calibri"/>
              </a:rPr>
              <a:t>very slowly</a:t>
            </a:r>
            <a:br>
              <a:rPr sz="2400"/>
            </a:br>
            <a:r>
              <a:rPr b="1" i="1" lang="en-US" sz="2400" spc="-1" strike="noStrike">
                <a:solidFill>
                  <a:srgbClr val="376092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ffects a variety of different functions in the bod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xual development and maturity, growth, metabolism, the brain's mood states and reproductive healt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rmones perform a large array of tas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rmones are extremely powerful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ery small amounts of hormones can drastically change cells and even the entire bod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ither excess or insufficient amounts can cause severe damage to a bod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TextBox 7" descr=""/>
          <p:cNvPicPr/>
          <p:nvPr/>
        </p:nvPicPr>
        <p:blipFill>
          <a:blip r:embed="rId1"/>
          <a:stretch/>
        </p:blipFill>
        <p:spPr>
          <a:xfrm>
            <a:off x="79200" y="304920"/>
            <a:ext cx="2213280" cy="64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rmone Ty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457200" y="1662120"/>
          <a:ext cx="8229600" cy="45864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957240"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cation of Recep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asses of Hormo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nciple Mechanism of A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ff"/>
                    </a:solidFill>
                  </a:tcPr>
                </a:tc>
              </a:tr>
              <a:tr h="2386080"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ll surface receptor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(plasma membran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cb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teins and peptides, catecholamines and eicosanoi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cb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neration of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cond messenger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which alter the activity of other molecules - usually enzymes - within the c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cb"/>
                    </a:solidFill>
                  </a:tcPr>
                </a:tc>
              </a:tr>
              <a:tr h="1243080"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racellular receptor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(cytoplasm and/or nucleu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60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eroids and thyroid hormo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60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ter transcriptional activity of responsive ge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6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an Environmental Factors Create Hormonal Imbalanc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es they can!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emical pollution of excess man-made Estrogens are very real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ur dangerous foe… the common tin can!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modern process of canning foods in tin cans lined with a thin layer of plasti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ronically, although today’s canned goods are keeping foods from spoiling, they’re “spoiling” us instead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nned goods are inadvertently supplying us with unwanted estrogen-like hormo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action between the tin and the plastic liner over tim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nwanted cumulative chemical addition have dire consequences within our bod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ding a synthetic steroidal hormone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7856640" y="152280"/>
            <a:ext cx="1122120" cy="16765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7780320" y="239760"/>
            <a:ext cx="119844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8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000"/>
                            </p:stCondLst>
                            <p:childTnLst>
                              <p:par>
                                <p:cTn id="296" nodeType="afterEffect" fill="hold" presetClass="emph" presetID="32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Rot by="120000">
                                      <p:cBhvr>
                                        <p:cTn id="297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98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99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00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0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228600" y="3808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558ed5"/>
                </a:solidFill>
                <a:latin typeface="Calibri"/>
              </a:rPr>
              <a:t>How is it that humans and animals maintain consistent blood concentrations of glucose throughout their lives despite wildly varying frequencies of meals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your blood glucose concentration drops below 1 mg per ml, your neurons will begin to misbehave, leading ultimately to coma and death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f79646"/>
                </a:solidFill>
                <a:latin typeface="Calibri"/>
              </a:rPr>
              <a:t>Yet skipping breakfast is rarely life-threatenin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7543800" y="2492280"/>
            <a:ext cx="1486080" cy="15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1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22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" dur="1000" autoRev="1" fill="hold"/>
                                        <p:tgtEl>
                                          <p:spTgt spid="4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10663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e answer is that a battery of chemical messengers - </a:t>
            </a:r>
            <a:r>
              <a:rPr b="0" i="1" lang="en-US" sz="4000" spc="-1" strike="noStrike">
                <a:solidFill>
                  <a:srgbClr val="c00000"/>
                </a:solidFill>
                <a:latin typeface="Aharoni"/>
                <a:ea typeface="Aharoni"/>
              </a:rPr>
              <a:t>hormones</a:t>
            </a: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- are secreted into blood in response to rises and falls in blood glucose concentration and stimulate metabolic pathways that pull glucose concentrations back into the normal range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720" y="464832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ellular communic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61760" y="5367240"/>
            <a:ext cx="784836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re are two different ways in which cells communicate with each other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at are those two ways? (you know at least one!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1066680" y="533520"/>
            <a:ext cx="7239240" cy="43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2895480" y="1447560"/>
            <a:ext cx="601992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 nervous system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exerts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point-to-poin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ontrol through nerves, similar to sending messages by conventional telephone. Nervous control is electrical in nature and fas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http://www.vivo.colostate.edu/hbooks/pathphys/endocrine/basics/anim_nerve.gif"/>
          <p:cNvPicPr/>
          <p:nvPr/>
        </p:nvPicPr>
        <p:blipFill>
          <a:blip r:embed="rId1"/>
          <a:stretch/>
        </p:blipFill>
        <p:spPr>
          <a:xfrm>
            <a:off x="685800" y="685800"/>
            <a:ext cx="152388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56840" y="914040"/>
            <a:ext cx="624852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 endocrine system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roadcasts its hormonal messages to essentially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all cell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y secretion into blood and extracellular fluid. Like a radio broadcast, it requires a receiver to get the message - in the case of endocrine messages, cells must bear a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cepto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for the hormone being broadcast in order to respon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1" descr="http://www.vivo.colostate.edu/hbooks/pathphys/endocrine/basics/anim_endo.gif"/>
          <p:cNvPicPr/>
          <p:nvPr/>
        </p:nvPicPr>
        <p:blipFill>
          <a:blip r:embed="rId1"/>
          <a:stretch/>
        </p:blipFill>
        <p:spPr>
          <a:xfrm>
            <a:off x="7162920" y="838080"/>
            <a:ext cx="15080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4038480" y="241200"/>
            <a:ext cx="4800600" cy="63756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haroni"/>
                <a:ea typeface="Aharoni"/>
              </a:rPr>
              <a:t>Pituitary Gl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42992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STER GLAND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es hormones that control several other endocrine gland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production and secretion of  can be influenced by factors such as emotions and seasonal change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uch as environmental temperature, light exposure patterns, and feeling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4038480" y="241200"/>
            <a:ext cx="4800600" cy="6375600"/>
          </a:xfrm>
          <a:prstGeom prst="rect">
            <a:avLst/>
          </a:prstGeom>
          <a:ln w="0">
            <a:noFill/>
          </a:ln>
        </p:spPr>
      </p:pic>
      <p:sp>
        <p:nvSpPr>
          <p:cNvPr id="57" name="Title 6"/>
          <p:cNvSpPr/>
          <p:nvPr/>
        </p:nvSpPr>
        <p:spPr>
          <a:xfrm>
            <a:off x="533520" y="133200"/>
            <a:ext cx="3008160" cy="11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haroni"/>
                <a:ea typeface="Aharoni"/>
              </a:rPr>
              <a:t>The Thyroid and Parathyroi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 Placeholder 8"/>
          <p:cNvSpPr/>
          <p:nvPr/>
        </p:nvSpPr>
        <p:spPr>
          <a:xfrm>
            <a:off x="380880" y="1405080"/>
            <a:ext cx="3008520" cy="46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trol the rate at which cells burn fuels for energy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crease in thyroid hormones,  so does the speed of chemical reactions in the body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ey role in bone growth and the development of the brain in childre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 tiny glands that function together called the parathyroid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y release parathyroid hormone, which regulates the level of calcium in the bloo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4038480" y="241200"/>
            <a:ext cx="4800600" cy="637560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9"/>
          <p:cNvSpPr/>
          <p:nvPr/>
        </p:nvSpPr>
        <p:spPr>
          <a:xfrm>
            <a:off x="152280" y="1295280"/>
            <a:ext cx="37339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wo parts, each produces a set of hormones and has a different function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outer part, the adrenal cortex, produces corticosteroi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gulate salt and water balance in the body, metabolism, the immune system, and sexual development and functio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inner part, the adrenal medulla, produces such as epinephrin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drenali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creases blood pressure and heart rate when the body experiences stres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itle 6"/>
          <p:cNvSpPr/>
          <p:nvPr/>
        </p:nvSpPr>
        <p:spPr>
          <a:xfrm>
            <a:off x="533520" y="76320"/>
            <a:ext cx="3008160" cy="11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haroni"/>
                <a:ea typeface="Aharoni"/>
              </a:rPr>
              <a:t>The Adrenal Gl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2T23:39:45Z</dcterms:created>
  <dc:creator>John AJ O'Connor</dc:creator>
  <dc:description/>
  <dc:language>en-US</dc:language>
  <cp:lastModifiedBy>John AJ O'Connor</cp:lastModifiedBy>
  <dcterms:modified xsi:type="dcterms:W3CDTF">2011-03-23T03:31:31Z</dcterms:modified>
  <cp:revision>26</cp:revision>
  <dc:subject/>
  <dc:title>Endocrine System</dc:title>
</cp:coreProperties>
</file>